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AEB4-287C-436B-A860-069B73F06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B867-B646-4808-908F-CD718F246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E28C-2337-4C42-9040-3CB879537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ADDC-F607-4951-BA7B-9F028DEE5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6E3A-7839-4AAE-9338-AD5C2E636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EA25-6AEE-4A79-AE62-3480E0AB4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49DB-4750-49AE-A3A9-BC245DD7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5D96-F043-4EEF-BE32-E2962B4BB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871D-EA42-4931-9926-9C2939B34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7FE4-C2DD-41EB-A304-A3108D61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A3C3-AED4-45B8-A8CE-6C61C1BF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163C-1D58-4130-AAF7-CFE2BEBB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C029A-842C-45AD-8485-1B4B505A2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bugging you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429000" y="2209680"/>
            <a:ext cx="2181240" cy="2067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38080" y="48769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od Safety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90920" y="837720"/>
            <a:ext cx="44193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of Food Borne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057400" y="2514600"/>
            <a:ext cx="5562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pathogen that causes this disea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pathogen a virus, bacteria, or parasi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the pathogen “behave”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6248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ptoms / Trea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133360" y="2209680"/>
            <a:ext cx="5257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symptoms do people get because of this disea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kind of care is the person giv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24080" y="1371240"/>
            <a:ext cx="381024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5640" y="2133720"/>
            <a:ext cx="4800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be done to prevent getting this disea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y Food Saf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te a picture 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15:13:24Z</dcterms:created>
  <dc:creator>tmccabe</dc:creator>
  <dc:description/>
  <dc:language>en-US</dc:language>
  <cp:lastModifiedBy>tmccabe</cp:lastModifiedBy>
  <dcterms:modified xsi:type="dcterms:W3CDTF">2008-03-13T18:45:22Z</dcterms:modified>
  <cp:revision>4</cp:revision>
  <dc:subject/>
  <dc:title>What’s bugging you?</dc:title>
</cp:coreProperties>
</file>