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1958-A758-494C-B5E5-75496A8B4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4AD8-F80D-4F86-B9B8-F75FA893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9C80-59D7-4CBF-8530-42822E116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0B91-013F-4B15-9A5F-7966BE05D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1211-D8E7-4108-A8B3-CB2CAD74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CF81-3574-4B4C-858C-C3980D2F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A82C-3654-41D2-AD58-01860F69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F325-388D-49E2-A759-79587311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1E91-D7B2-470F-8C97-1763B696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6B1A-2DE8-4E74-9617-FEB5B2B9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B0C0-0298-41EF-BC31-420C1A83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B189-24BA-423E-A9FC-19FF0192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747B-C9D4-4436-857F-64A5AE959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bugging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29000" y="2209680"/>
            <a:ext cx="2181240" cy="2067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876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 Safety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90920" y="837720"/>
            <a:ext cx="4419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of Food Borne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057400" y="2514600"/>
            <a:ext cx="5562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athogen that causes this dise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pathogen a virus, bacteria, or parasi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e pathogen “behave”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6248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ptoms / 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133360" y="2209680"/>
            <a:ext cx="5257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ymptoms do people get because of this dise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care is the person giv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24080" y="1371240"/>
            <a:ext cx="38102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5640" y="2133720"/>
            <a:ext cx="4800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be done to prevent getting this dise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y Food Saf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te a picture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15:13:24Z</dcterms:created>
  <dc:creator>tmccabe</dc:creator>
  <dc:description/>
  <dc:language>en-US</dc:language>
  <cp:lastModifiedBy>tmccabe</cp:lastModifiedBy>
  <dcterms:modified xsi:type="dcterms:W3CDTF">2008-03-13T18:45:22Z</dcterms:modified>
  <cp:revision>4</cp:revision>
  <dc:subject/>
  <dc:title>What’s bugging you?</dc:title>
</cp:coreProperties>
</file>