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9BD-AD18-47B1-A246-24B46D55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197-DE0A-48BE-9511-6953C150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FE3-EF20-4330-8186-B9B213E7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BE8-F9AC-491F-9D9C-B5588284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E65-EC74-41AE-B364-D1E676B6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466-6DAA-49E6-9455-0381C863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FB8-CB6C-4168-8B98-70150296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380-8405-48AF-AEB6-7A8B12BA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275-F708-4D73-B98F-0910E706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C39-2109-430B-887C-CDB0ED58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CA0-825F-4C58-A22A-263BAF04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CE8-B768-4512-AC85-81E049C0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AC2B-4D3F-42E1-B317-56D0E537A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bugging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2181240" cy="206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Safety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837720"/>
            <a:ext cx="4419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Food Born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2514600"/>
            <a:ext cx="5562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athogen that causes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thogen a virus, bacteria, or para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pathogen “behave”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6248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/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360" y="220968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ptoms do people get because of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care is the person gi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1371240"/>
            <a:ext cx="3810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480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be done to prevent getting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y Food Sa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e a pictur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5:13:24Z</dcterms:created>
  <dc:creator>tmccabe</dc:creator>
  <dc:description/>
  <dc:language>en-US</dc:language>
  <cp:lastModifiedBy>tmccabe</cp:lastModifiedBy>
  <dcterms:modified xsi:type="dcterms:W3CDTF">2008-03-13T18:45:22Z</dcterms:modified>
  <cp:revision>4</cp:revision>
  <dc:subject/>
  <dc:title>What’s bugging you?</dc:title>
</cp:coreProperties>
</file>