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22E-4759-423F-B76E-840055D8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42C-26FD-4B09-AF1E-10CE99C4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DA2-CA9A-4BE5-8880-229CFA76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F3B-DBC4-424B-9C0E-AB6DAF67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C7E-3468-48EE-9808-2806DE85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BD7-5DC7-4C2F-958F-D3115CF2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38B-8523-46E8-8340-0AA7ABA7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C0D-3AB2-4DCA-94BB-A28BAEC2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54C-B397-448E-A5EB-5CA65D08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F18-A2E3-4DAB-BC12-645CC5E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EFA-3E55-4094-BC71-54106929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2BD-1BA5-4D33-9BB1-3CA3346B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9D12-6002-40F0-8E27-4D21A158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bugging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181240" cy="206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Safety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837720"/>
            <a:ext cx="4419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Food Born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2514600"/>
            <a:ext cx="5562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ogen that causes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thogen a virus, bacteria, or para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pathogen “behave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6248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/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360" y="220968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ptoms do people get because of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care is the person gi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1371240"/>
            <a:ext cx="3810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done to prevent getting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y Food Sa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a pictur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5:13:24Z</dcterms:created>
  <dc:creator>tmccabe</dc:creator>
  <dc:description/>
  <dc:language>en-US</dc:language>
  <cp:lastModifiedBy>tmccabe</cp:lastModifiedBy>
  <dcterms:modified xsi:type="dcterms:W3CDTF">2008-03-13T18:45:22Z</dcterms:modified>
  <cp:revision>4</cp:revision>
  <dc:subject/>
  <dc:title>What’s bugging you?</dc:title>
</cp:coreProperties>
</file>