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9377-FBC8-44B4-B18B-0D95B85B4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FB4D-0F79-451E-9EFF-9346306F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827E-6A7A-4384-B2C1-75156903C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238D-3999-4827-890D-3928E9FE0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AB86-BF25-4CCB-BE87-4CDE31E0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6D8A-D2FD-4E2A-8453-B5E15EA0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9759-A843-4311-8528-7B2ECF08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CD3C-0F86-4259-BBA6-FF3510FC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8F4D-C6F2-4FD1-8D14-90151446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9009-EFC2-4D79-92C3-A5E8D0DB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0EC6-953F-4843-B435-E4A9CECE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2BFC-2EF6-4F73-A89A-674E45EF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2953-D658-4E91-A93B-DA26C8D5A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bugging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29000" y="2209680"/>
            <a:ext cx="2181240" cy="2067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876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 Safety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90920" y="837720"/>
            <a:ext cx="4419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of Food Borne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057400" y="2514600"/>
            <a:ext cx="5562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athogen that causes this dise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pathogen a virus, bacteria, or parasi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e pathogen “behave”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6248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ptoms / 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133360" y="2209680"/>
            <a:ext cx="5257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ymptoms do people get because of this dise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care is the person giv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24080" y="1371240"/>
            <a:ext cx="38102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5640" y="2133720"/>
            <a:ext cx="4800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be done to prevent getting this dise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y Food Saf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te a picture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5:13:24Z</dcterms:created>
  <dc:creator>tmccabe</dc:creator>
  <dc:description/>
  <dc:language>en-US</dc:language>
  <cp:lastModifiedBy>tmccabe</cp:lastModifiedBy>
  <dcterms:modified xsi:type="dcterms:W3CDTF">2008-03-13T18:45:22Z</dcterms:modified>
  <cp:revision>4</cp:revision>
  <dc:subject/>
  <dc:title>What’s bugging you?</dc:title>
</cp:coreProperties>
</file>