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C8A-B739-4877-B300-BBDB9FCF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37C-979A-4612-9D48-6D2A61A7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3C1-3992-4B90-8532-CF5576F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747-24FE-4703-B208-356C5D42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0A4-7745-42E9-BF95-00A87F5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A68-6C02-44D3-A9D6-A7520BA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2C6-0244-4438-9444-2525E17F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74A-2E24-44C8-8FBC-82C9722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FBB-2E37-490A-A00B-5A8DB1F4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DCB-4213-4A9D-A645-DF376CB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B78-0F3C-445C-8AD4-FD4BFA1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97B-79FC-4778-8D5B-7E7D358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1B8-5953-4C4C-88B0-32E65652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bugging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81240" cy="20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837720"/>
            <a:ext cx="4419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Food Bor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2514600"/>
            <a:ext cx="5562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ogen that causes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thogen a virus, bacteria, or para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athogen “behav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/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220968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ptoms do people get because of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care is the person 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080" y="1371240"/>
            <a:ext cx="3810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prevent getting this dis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y Food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a pictur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5:13:24Z</dcterms:created>
  <dc:creator>tmccabe</dc:creator>
  <dc:description/>
  <dc:language>en-US</dc:language>
  <cp:lastModifiedBy>tmccabe</cp:lastModifiedBy>
  <dcterms:modified xsi:type="dcterms:W3CDTF">2008-03-13T18:45:22Z</dcterms:modified>
  <cp:revision>4</cp:revision>
  <dc:subject/>
  <dc:title>What’s bugging you?</dc:title>
</cp:coreProperties>
</file>